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dt" idx="5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ftr" idx="59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 type="sldNum" idx="60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2D3D-A5EC-45CE-AC87-8320C05C2B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B4D0-05F8-4B61-80AB-DBE31E840C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5A51-2FE5-4E30-8185-1E4287D98F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2D41-AFD8-4BC8-A5AA-483DFC68C9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F1E-B18B-457F-BBBD-0F69CF27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54F-65FA-46B8-B0F0-6D1E4FD8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33698-BC3F-46BA-9BC7-B8B4023C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D6A0C-47D7-4D41-A40D-D81CE55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1BE63-AF94-4D42-BD94-D0B2F71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C9BD3-FED6-4F46-99DD-7DB83A2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C4F74-ED1C-400B-95C8-57B8465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634A2-8ED1-4DC1-AEB4-47DBD15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2F2B8-AB4B-4020-9B66-FE31B962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8A3F1-6713-48AE-BE82-1B407D20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950EF-7E3E-4C4B-9C9E-A286A51D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CDEC2-86A2-45B8-A03A-ACC892B7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56D-AD31-4281-8DFB-9FFDEE5F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03BAB-94C1-4640-AC51-316BDA40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E6B2C-77C1-4787-BCCC-8D1FAF2B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5F4B4-3351-4A19-9A83-69BBFF4D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BD3E4-7BA6-42E7-BA8A-6742F5BA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C94DF-21E3-4E71-AC7C-0D43A9B4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663C4-E30B-4B04-8283-ADBBAB19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AA570-2B9B-4FDB-8CD6-546FEDB5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315B1-C3E6-43EE-B355-A8B570DC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EDC21-1245-4288-8E46-3D15DF13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6AFCE-969D-457B-98E9-609FA895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9C6-55CA-47C8-9DD0-0AB997E3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A30BD-F139-40E2-B2FA-C444E6A3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F07C-5FFD-4F87-8490-9BC12797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9CFF5C-3AB7-4EB6-AF02-D1C9FE0B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E16BDA-A620-4FD5-B18E-E57ACFEB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041FD7-6C49-4646-AE86-E1D5E869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F961BE-28AB-4A3E-9A9B-078249B4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225A0C-9AD5-485A-8471-0B12DC9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9E234C-EB52-4102-A744-B014C85E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996A55-1C43-4905-8D55-94055658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38B0-2529-4876-8949-029E9138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A8BA61-076E-4732-AD6D-84F9EB7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EDB7B0-A797-4A2C-9EE7-A84F8F25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D8674D-BFAA-41FD-A5CD-BE3A7131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7C9ACE-5B65-4235-9930-A0907344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91C5BA-FCAE-442A-BBFF-1D28EEC8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6E9989-3E78-417F-83F9-99A4CEDA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C9DC35-6636-4986-AFF7-35B4EA8F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D1955F-2FDE-420F-86CA-9F0B3876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091067-56C9-46FF-A605-97282DA3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B37F1A-1C09-421E-AEBB-42440E3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09A6-628C-449D-9097-5ED43FA1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6BFCC7-6BCD-4E3E-86BA-42C22B6B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BEDC8F-4C55-457B-98BE-A1435519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756195-B7F6-4BB1-B865-1400D1C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01D014-06C2-44BC-BB09-44EA890E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B43781-A389-416A-8AEB-FE572C3E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56B062-63BD-4345-AF9C-B5E20467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38AB7D-06FC-48D7-9643-5DC5E481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D03539-2863-4C74-8A31-A81F189B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DD409A-4D22-42FB-8ECE-584FEE6C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DB37AC-6312-46B3-829C-D14E86F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F62D-94C5-441B-9743-49924AFF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160A38-FB90-4A03-8CA7-6DBC6AAA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EDA994-8DDA-44D5-8F9D-3B9E46C6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133556-79B1-4B9F-840D-21FCA8DC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D62307-209C-4596-9F30-7B25415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C35954-2E1F-4F91-A819-17E3D494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51D188-9819-44A8-A3E0-72909C5D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3315CE-9D63-427C-87AD-D78B05F3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9EFD20-CAD9-4D42-875A-E60B564D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6D670C-18DD-47F1-89C5-BE295DC9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6ACA39-1D07-4D5A-BE94-1E9B64C6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B20D-87AA-4A86-9533-382C7F11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84D7AE-DEA6-4708-BF2B-FE1E42DA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917FC1-8764-42DD-8B48-16435660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214101-9035-467B-91DE-5AB38640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9971BC-25A7-4003-AF47-4B1EC6A7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579382-4B72-4D6A-83B3-07EA91E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3A0FF5-FA8F-41A0-9FF9-32AF2F6A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3EC456-BBB0-44C1-9ECD-5E4DE221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27497B-02FE-47E9-A4A5-D87D2F23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CAEAD7-49EF-41B3-9DD8-102E486E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BD1487-9A2F-4BD5-949B-9BA8143F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C7B2-D81E-4995-BF22-6FC541D6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3333E1-9B3E-4BE6-83D0-02F73597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5190AD-CDAE-4992-8A7C-3B4625C3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17D04D-8641-40B8-97E3-367728CD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BA3C17-A5F7-4015-B915-2A3684D9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B35786-F4A3-42D9-8A29-6AD77011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BC4360-D570-4B32-8E87-8703167B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CAE4CD-5437-42EC-81CD-A474744A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850A0A-8CEE-48D2-9AFC-CD8ABF93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C1B9F6-2C83-47FA-93A4-C8E493AF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7A6CA1-842A-43D1-8DC3-3708A69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C2CC-A693-4341-AF89-B6F2243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1E84AF-BF26-44A3-AA23-CCA10BA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724262-66EA-4948-866A-7AF777B4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9B7891-2B5C-40AB-BDA1-DE63EFC6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7E3-F335-497C-B26D-E0FD6E33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1E33-5C64-4B0D-BF2A-D1D9648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F46B0-55B2-4D37-ABBE-858F24C1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ED310-038B-413C-8BDC-AD4B6E17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CEA5C-48C7-46B3-8E24-AF070A7A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B7CFB-1AA0-4340-9FC0-4B894516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FD046-2E3A-4EED-9C42-4A2E6369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F2BF-4466-4C4C-83A1-C93A99B8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DD339-5723-45E9-AFA2-C217DE3A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E9636-8EAF-4A23-B9C9-0400CBEF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1FE9F-6A14-48CD-ABDD-CEBC9ED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AB512-7522-42E5-9023-874A6AD3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6A497-9B06-45D7-9E76-A597C13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316CD-B165-4AE4-8855-09E4AB0A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712D63-6F50-4513-BFC6-81A6522F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DDC6E-FF53-4B24-B592-383F1B81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2899F-1CF3-42C6-B0EF-2296B631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F65C3-F199-44BF-8EA0-66600EED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B74C-DBF4-46C1-973B-532EAF5D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613DC-C99A-4D9D-970A-DC43FD6A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B362A-0A92-4B1F-86AE-EDB60778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7EA74-35AE-477E-AFFF-36AD2EE9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DFBD8C-7B45-4A1E-8EF1-6996E531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7A4AD-A4C6-40BA-AD30-1BBB823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01489-3BAE-485E-AF0E-1022372E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D1121-7BF5-4808-9C25-97E8379C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0A32B-598A-46AB-854E-0F6A0A81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1A448-12A7-41A4-8518-06997170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DA9AF-061C-4B17-ABBB-6B30C18F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502A-16AF-4E08-84C6-2C516ADB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4959C-98F9-4969-9DB4-2C74635A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FD7CB-16BA-45AB-B177-4778E96D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A33B7-19CF-442C-A83D-66A01913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37CBB-15DE-4BF0-A4DB-9BA5A7BC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326EE-7AA2-4DEC-88B8-BFA2D808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BD579-4C28-4EE4-8380-CE8C808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1BB336-EFD6-4912-9967-DC781DC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96015-99C2-431A-B381-11799CB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3B186-6A89-4D77-8B17-1C5AA86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D7C1F-E039-42B4-B3E4-A902D04E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16B6-F15D-4DA7-B4E3-45E91241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19534-B77C-4BCA-B781-841C49F1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6BFB98-1252-470F-B5DF-5793010B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7A7C77-0B9D-42E5-8AC5-433CA2DF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D7B60-463C-434C-9EDA-5931738F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E12DE-7BE5-47AC-8158-5A1D167A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2E880-258A-47B2-B7C7-5DFF510F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0ACE4-B377-4760-8364-69A63D71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24D68-3481-4DA5-B320-FE171A2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BC4D4-D709-4D13-BCF2-35892984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7A649-561A-44B6-AE0A-2EE136E1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F17B-F3B1-473A-8865-5512F17A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C437A-4C14-4E1F-B31B-6984E4AE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530B3-0B8A-4515-B8B4-1C1BE396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470BE-E2D9-4D30-8100-69512190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492F1-1C78-4468-BD25-D8F8321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B036-2102-4466-81D7-56353E19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2A20-2D6F-4524-B9EE-BD37D48E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216C-68A9-40B2-9804-CC25008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666-2519-40C3-98F8-A0759073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97A5-1284-4C47-BF90-C0DEB8FF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EEC7-491C-4D26-9F2C-20FC6027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9F95-31BA-41C5-AF80-1A9F38F7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E7BEF-1725-4BDB-9324-80A0AB7F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A769-9904-48F7-BCEB-71897C9B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85CF-95B7-42A9-BD15-F9EF843B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EDB2-FD9C-4580-994E-565435FD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7115-EE27-46BD-AD9E-F2DB4A2E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FA94-5762-4598-9D24-3383D2E4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BE79-12B5-4218-9ECB-CC6BDEF7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348-FCE9-49D2-B3D2-5507A3F8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544D5-1604-4297-9C94-B216C7E9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C601-017B-4F4E-A934-41766C83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CE70-C39C-47F0-8459-00E00467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EDBDD-AB42-4681-9E50-EF264415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61822-4FA1-439D-803E-4468E199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4EE5-2C08-4996-B57C-633E6BEE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14CA3-E80D-4437-8D7D-9396A3F4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DB04-9637-4C78-89F7-82F377A9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0181-A3D5-4792-8074-616D5129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7E5C5-83A4-47FE-A6CB-BC148305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325-03ED-48F6-871B-5F9A8FE5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4A5C6-8C13-4FB9-B4F5-AE513B34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3AD0E-86D6-4D06-BC5F-5AF6CBC3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2530-CE30-4264-910E-C9590469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263C8-B2DB-486D-8CE5-3259481C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8E78-C29A-4C0E-8D8D-83FC5D70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88FD0-E643-470F-B9EF-EAE15F81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08EE4-2DE4-4A0C-998A-355AFCC8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C0D02-87DF-4949-A72A-44E746FC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C519-64B8-4610-9574-96E0A845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AB341-5CF4-4AFB-89AA-E7D005F6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E58-8CC4-45B5-9CF3-DA5BFECB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B94C-31F4-4AD0-BDE8-B072856C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051-851E-4FD4-BE4A-2E317668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036500-3CC6-43C1-906A-127F34B6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00E232-214A-42A4-B9F4-58A39E28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FC81C0-8451-4924-8685-A2E61C40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3BC9E4-F257-4CAB-B04B-69282C0E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4F6F6A-8E29-46BD-905B-66D510BB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EFED1D-3768-4634-A412-F8D498BB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C4000D-CD11-422A-A4E4-4536AF74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95C-F3AF-4C84-8F0F-2E0E0DF5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B972F-0765-457E-9EEB-D4ED2452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AC4180-196A-4D09-A85D-B4E7803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AEF389-C71A-4577-B9BB-D562382E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1A6A2-B2ED-4D5A-B7C3-B12E7393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B80B4B-E80D-4CD2-9158-88B6EBE1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5C34E6-A4AE-4ADE-913E-C9D08E69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1E7AAF-3E65-462B-8483-D2655600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96B96A-8D35-4F83-9AFA-30BD7FAC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64DC1A-D949-42C7-BD63-AEFA1DB1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9F8B3E-A9B3-4487-A8AC-2537AC03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668-F173-4A9D-8762-CDF6F70B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2A3949-01C4-4D39-981F-89FBE0E4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DFDDDE-179C-4939-9421-210D3701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0F94CC-D0E4-4C83-9432-EEFA3A27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37188C-102D-4377-AC7B-41E4A760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D9B46-E08A-4D8E-9A79-E9394253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53DCD5-6CEB-46F9-ABF9-FDCE00F7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610738-241C-415E-A874-10F4BB61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0E899-51BB-4674-A301-66044E01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C37F4-EB19-4EF0-BEAC-03C27FB7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4663E-C520-41AE-AAB5-90CD24A7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F7C8-1C5A-49C3-9406-795975BA67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A85B-855C-4793-B4EF-3881103E9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6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1FE7-C4BD-4B36-BCB0-FB47D4D22FF6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7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8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1AFA-143B-4895-ACBC-B2C7C3371E10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dt" idx="29"/>
          </p:nvPr>
        </p:nvSpPr>
        <p:spPr>
          <a:xfrm>
            <a:off x="0" y="6105240"/>
            <a:ext cx="153504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E728-855B-4D88-AC6D-3AA486B32C28}" type="datetime">
              <a:rPr b="0" lang="ru-RU" sz="2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dt" idx="30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3B1B-A51B-4155-9193-2FF5859EBE0A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31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2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F058-0024-46DF-8690-DF3EAEEAB18C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42360" y="38160"/>
            <a:ext cx="609480" cy="49212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8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9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0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ятиугольник 11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33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986C-D22F-406C-AE47-150295371564}" type="datetime">
              <a:rPr b="0" lang="ru-RU" sz="1200" spc="-1" strike="noStrike">
                <a:solidFill>
                  <a:srgbClr val="bfbfbf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34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5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AE9E-65D4-4A38-AC74-34121BF4E1F1}" type="slidenum">
              <a:rPr b="1" lang="ru-RU" sz="14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dt" idx="36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4533-BFD0-482C-91E6-8FDEB86C793B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37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38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94C4-1284-4685-AE35-94643200E087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 /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dt" idx="39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EC39-DB71-418C-8C92-0069A49902F5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ftr" idx="40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41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F64E-ED85-4CC2-9364-B7EE8AE0A6AE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656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dt" idx="42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8461-F4FF-4571-81AA-C9260F91C097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ftr" idx="43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44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EFD-7624-4903-BACC-B9800F6D1333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45"/>
          </p:nvPr>
        </p:nvSpPr>
        <p:spPr>
          <a:xfrm>
            <a:off x="0" y="6105240"/>
            <a:ext cx="153504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7881-A9FD-418C-A492-57FBDF2973C9}" type="datetime">
              <a:rPr b="0" lang="ru-RU" sz="2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6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8C74-0951-4849-A165-321DAA188580}" type="datetime">
              <a:rPr b="0" lang="ru-RU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47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8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09C-53CB-4C9A-9F26-BF00F0D8D35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42360" y="38160"/>
            <a:ext cx="609480" cy="492120"/>
          </a:xfrm>
          <a:prstGeom prst="rect">
            <a:avLst/>
          </a:prstGeom>
          <a:ln w="0">
            <a:noFill/>
          </a:ln>
        </p:spPr>
      </p:pic>
      <p:sp>
        <p:nvSpPr>
          <p:cNvPr id="784" name="Прямая соединительная линия 19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ая соединительная линия 20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ая соединительная линия 21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ая соединительная линия 22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ятиугольник 23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dt" idx="49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C15D-35BE-438D-AB64-77B4CC04D317}" type="datetime">
              <a:rPr b="0" lang="ru-RU" sz="1200" spc="-1" strike="noStrike">
                <a:solidFill>
                  <a:srgbClr val="bfbfb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ftr" idx="50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51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D0D2-781C-491F-B945-4EFFF34BB29E}" type="slidenum">
              <a:rPr b="1" lang="ru-RU" sz="14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60DE-A7D1-4B7F-A8E0-80ADCD764371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AAAC-6BEB-4737-9C3B-1EDEFCD3DCD4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833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dt" idx="52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0315-C059-4D4A-A651-886E738A8B2E}" type="datetime">
              <a:rPr b="0" lang="ru-RU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ftr" idx="53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sldNum" idx="54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07A0-8F41-4F62-B4AF-606E6EE130C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/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881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55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9B9-51EA-4CCE-8204-44C8D2DE8DA3}" type="datetime">
              <a:rPr b="0" lang="ru-RU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56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57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B061-806C-4E60-A0C7-72588F184E6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0A99-1147-41A0-A2B1-D49627E88867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9EEC-53C0-4CE2-9030-34B27FE117EA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5E5-B1AA-4C28-AFCA-5138F93541A5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3DD5-F05A-4C43-B013-3EDB23207BC0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6E6A-1DF1-47A4-BA36-1ECB0CB55F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9A83-AF02-43FF-9FB3-FF0D99A23223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/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0" y="6105240"/>
            <a:ext cx="153504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56F7-2533-4E57-978E-0C656A198DDF}" type="datetime">
              <a:rPr b="0" lang="ru-RU" sz="2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7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0E11-134E-4C6D-BFA9-9054BF4D18D1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8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9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E1A1-05B4-4A33-96D6-2286745C5750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42360" y="38160"/>
            <a:ext cx="609480" cy="49212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8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9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0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ятиугольник 11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20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5E47-BB74-4F87-84CE-1C214925DD77}" type="datetime">
              <a:rPr b="0" lang="ru-RU" sz="1200" spc="-1" strike="noStrike">
                <a:solidFill>
                  <a:srgbClr val="bfbfbf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21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2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238A-77DC-4A01-BDA4-DBB8985803D1}" type="slidenum">
              <a:rPr b="1" lang="ru-RU" sz="14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3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1629-86C3-4FDF-89BF-7704AC37AFBF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4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5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FC96-1E98-4F07-A3BB-89C9A264BB87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 /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рямоугольник 92"/>
          <p:cNvSpPr/>
          <p:nvPr/>
        </p:nvSpPr>
        <p:spPr>
          <a:xfrm>
            <a:off x="76320" y="938160"/>
            <a:ext cx="9007200" cy="552456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3270240" y="5128920"/>
            <a:ext cx="5813280" cy="12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title"/>
          </p:nvPr>
        </p:nvSpPr>
        <p:spPr>
          <a:xfrm>
            <a:off x="344520" y="1717560"/>
            <a:ext cx="84708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OST type A"/>
              </a:rPr>
              <a:t>Приложение № 2 к протоколу НТКС № 52-2016</a:t>
            </a:r>
            <a:br>
              <a:rPr sz="6500"/>
            </a:br>
            <a:br>
              <a:rPr sz="65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ая    информация    по    финансированию, совершенствованию структуры и механизмов работы МГС в области стандарт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рассмотрения на    52-м    заседании Научно-технической     комиссии     по     стандартизации    МГС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(пункт    6.8. протокола МГС от 27-28 июня 2016 г. № 49-2016)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4" name="Рисунок 20" descr=""/>
          <p:cNvPicPr/>
          <p:nvPr/>
        </p:nvPicPr>
        <p:blipFill>
          <a:blip r:embed="rId1"/>
          <a:srcRect l="0" t="0" r="0" b="63848"/>
          <a:stretch/>
        </p:blipFill>
        <p:spPr>
          <a:xfrm>
            <a:off x="0" y="6437160"/>
            <a:ext cx="9144000" cy="420840"/>
          </a:xfrm>
          <a:prstGeom prst="rect">
            <a:avLst/>
          </a:prstGeom>
          <a:ln w="0">
            <a:noFill/>
          </a:ln>
        </p:spPr>
      </p:pic>
      <p:pic>
        <p:nvPicPr>
          <p:cNvPr id="935" name="Рисунок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936" name="Рисунок 86" descr=""/>
          <p:cNvPicPr/>
          <p:nvPr/>
        </p:nvPicPr>
        <p:blipFill>
          <a:blip r:embed="rId3"/>
          <a:stretch/>
        </p:blipFill>
        <p:spPr>
          <a:xfrm>
            <a:off x="7959600" y="-66600"/>
            <a:ext cx="1184400" cy="1038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" descr="http://www.fast-print.kz/upload/iblock/b4d/b4ddf36050169d82b2df0d155206face.png"/>
          <p:cNvPicPr/>
          <p:nvPr/>
        </p:nvPicPr>
        <p:blipFill>
          <a:blip r:embed="rId4"/>
          <a:stretch/>
        </p:blipFill>
        <p:spPr>
          <a:xfrm>
            <a:off x="3284640" y="0"/>
            <a:ext cx="20811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401760" y="1844640"/>
          <a:ext cx="8532720" cy="350532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Документы, определяющие направления развития МГС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 Соглашение о проведении согласованной политики в области стандартизации, метрологии и сертификации (от 13.03.1992 с изменениями)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 Концепция дальнейшего развития Содружества Независимых государств, одобренная Советом глав государств Содружества Независимых Государств от 05.12.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 Стратегия развития Межгосударственного совета по стандартизации, метрологии и сертификации на период до 2020 г. (МГС №34-2008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 «Дорожная карта по разработке перспективного облика МГС как региональной организации» (проек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9" name="Номер слайда 3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446B-C106-42E4-8AC2-ED6A4A338195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Прямоугольник 5"/>
          <p:cNvSpPr/>
          <p:nvPr/>
        </p:nvSpPr>
        <p:spPr>
          <a:xfrm>
            <a:off x="250920" y="260280"/>
            <a:ext cx="84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5a9e"/>
                </a:solidFill>
                <a:uFillTx/>
                <a:latin typeface="Arial"/>
              </a:rPr>
              <a:t>Миссия МГС</a:t>
            </a:r>
            <a:r>
              <a:rPr b="1" lang="ru-RU" sz="2400" spc="-1" strike="noStrike">
                <a:solidFill>
                  <a:srgbClr val="005a9e"/>
                </a:solidFill>
                <a:latin typeface="Arial"/>
              </a:rPr>
              <a:t> – снижение технических барьеров, развитие зоны свободной торговли на пространстве С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Прямая соединительная линия 6"/>
          <p:cNvSpPr/>
          <p:nvPr/>
        </p:nvSpPr>
        <p:spPr>
          <a:xfrm>
            <a:off x="122400" y="1628640"/>
            <a:ext cx="8928000" cy="0"/>
          </a:xfrm>
          <a:prstGeom prst="line">
            <a:avLst/>
          </a:prstGeom>
          <a:ln w="1908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Прямая соединительная линия 8"/>
          <p:cNvSpPr/>
          <p:nvPr/>
        </p:nvSpPr>
        <p:spPr>
          <a:xfrm>
            <a:off x="122400" y="5661000"/>
            <a:ext cx="8928000" cy="0"/>
          </a:xfrm>
          <a:prstGeom prst="line">
            <a:avLst/>
          </a:prstGeom>
          <a:ln w="1908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Прямоугольник 3"/>
          <p:cNvSpPr/>
          <p:nvPr/>
        </p:nvSpPr>
        <p:spPr>
          <a:xfrm>
            <a:off x="250920" y="3650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576"/>
                </a:solidFill>
                <a:latin typeface="GOST type A"/>
              </a:rPr>
              <a:t>История в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37"/>
          <p:cNvGrpSpPr/>
          <p:nvPr/>
        </p:nvGrpSpPr>
        <p:grpSpPr>
          <a:xfrm>
            <a:off x="28440" y="1268280"/>
            <a:ext cx="9115560" cy="4971960"/>
            <a:chOff x="28440" y="1268280"/>
            <a:chExt cx="9115560" cy="4971960"/>
          </a:xfrm>
        </p:grpSpPr>
        <p:pic>
          <p:nvPicPr>
            <p:cNvPr id="945" name="Picture 4" descr="EASC-C"/>
            <p:cNvPicPr/>
            <p:nvPr/>
          </p:nvPicPr>
          <p:blipFill>
            <a:blip r:embed="rId1"/>
            <a:stretch/>
          </p:blipFill>
          <p:spPr>
            <a:xfrm>
              <a:off x="28440" y="5578200"/>
              <a:ext cx="727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4" descr="EASC-C"/>
            <p:cNvPicPr/>
            <p:nvPr/>
          </p:nvPicPr>
          <p:blipFill>
            <a:blip r:embed="rId2"/>
            <a:stretch/>
          </p:blipFill>
          <p:spPr>
            <a:xfrm>
              <a:off x="5867280" y="1268280"/>
              <a:ext cx="72864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4" descr=""/>
            <p:cNvPicPr/>
            <p:nvPr/>
          </p:nvPicPr>
          <p:blipFill>
            <a:blip r:embed="rId3"/>
            <a:stretch/>
          </p:blipFill>
          <p:spPr>
            <a:xfrm>
              <a:off x="7178760" y="1290240"/>
              <a:ext cx="185724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5"/>
            <p:cNvSpPr/>
            <p:nvPr/>
          </p:nvSpPr>
          <p:spPr>
            <a:xfrm>
              <a:off x="6595920" y="1269720"/>
              <a:ext cx="5032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96d2d"/>
                  </a:solidFill>
                  <a:latin typeface="Arial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Прямая соединительная линия 7"/>
            <p:cNvSpPr/>
            <p:nvPr/>
          </p:nvSpPr>
          <p:spPr>
            <a:xfrm>
              <a:off x="828720" y="590832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Прямая соединительная линия 9"/>
            <p:cNvSpPr/>
            <p:nvPr/>
          </p:nvSpPr>
          <p:spPr>
            <a:xfrm flipV="1">
              <a:off x="2124000" y="5250960"/>
              <a:ext cx="0" cy="657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Прямая соединительная линия 10"/>
            <p:cNvSpPr/>
            <p:nvPr/>
          </p:nvSpPr>
          <p:spPr>
            <a:xfrm>
              <a:off x="2124000" y="5262120"/>
              <a:ext cx="129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Box 11"/>
            <p:cNvSpPr/>
            <p:nvPr/>
          </p:nvSpPr>
          <p:spPr>
            <a:xfrm>
              <a:off x="539640" y="4890960"/>
              <a:ext cx="165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овершенствование планирования работ в МГ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Box 12"/>
            <p:cNvSpPr/>
            <p:nvPr/>
          </p:nvSpPr>
          <p:spPr>
            <a:xfrm>
              <a:off x="2124000" y="4462200"/>
              <a:ext cx="1584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зменени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лос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Прямая соединительная линия 13"/>
            <p:cNvSpPr/>
            <p:nvPr/>
          </p:nvSpPr>
          <p:spPr>
            <a:xfrm flipV="1">
              <a:off x="3390840" y="4604760"/>
              <a:ext cx="0" cy="657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Прямая соединительная линия 14"/>
            <p:cNvSpPr/>
            <p:nvPr/>
          </p:nvSpPr>
          <p:spPr>
            <a:xfrm>
              <a:off x="3348000" y="460512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Прямая соединительная линия 15"/>
            <p:cNvSpPr/>
            <p:nvPr/>
          </p:nvSpPr>
          <p:spPr>
            <a:xfrm flipV="1">
              <a:off x="4632480" y="3947760"/>
              <a:ext cx="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6"/>
            <p:cNvSpPr/>
            <p:nvPr/>
          </p:nvSpPr>
          <p:spPr>
            <a:xfrm>
              <a:off x="3348000" y="39477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вентариз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Т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Прямая соединительная линия 17"/>
            <p:cNvSpPr/>
            <p:nvPr/>
          </p:nvSpPr>
          <p:spPr>
            <a:xfrm>
              <a:off x="4632480" y="3947760"/>
              <a:ext cx="129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Box 18"/>
            <p:cNvSpPr/>
            <p:nvPr/>
          </p:nvSpPr>
          <p:spPr>
            <a:xfrm>
              <a:off x="4632480" y="2587320"/>
              <a:ext cx="1315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зме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ряд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лосования (в МТК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величение численности Бюр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Прямая соединительная линия 19"/>
            <p:cNvSpPr/>
            <p:nvPr/>
          </p:nvSpPr>
          <p:spPr>
            <a:xfrm flipV="1">
              <a:off x="5899320" y="3290400"/>
              <a:ext cx="0" cy="657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Прямая соединительная линия 20"/>
            <p:cNvSpPr/>
            <p:nvPr/>
          </p:nvSpPr>
          <p:spPr>
            <a:xfrm>
              <a:off x="5867280" y="3284280"/>
              <a:ext cx="25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Прямая соединительная линия 21"/>
            <p:cNvSpPr/>
            <p:nvPr/>
          </p:nvSpPr>
          <p:spPr>
            <a:xfrm flipV="1">
              <a:off x="8459640" y="1977480"/>
              <a:ext cx="0" cy="131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Box 22"/>
            <p:cNvSpPr/>
            <p:nvPr/>
          </p:nvSpPr>
          <p:spPr>
            <a:xfrm>
              <a:off x="5872320" y="2398320"/>
              <a:ext cx="239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работка и согласование новой структуры МГС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овых принципов финансир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Прямая соединительная линия 26"/>
            <p:cNvSpPr/>
            <p:nvPr/>
          </p:nvSpPr>
          <p:spPr>
            <a:xfrm flipV="1">
              <a:off x="2124000" y="1929960"/>
              <a:ext cx="0" cy="3332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Прямая соединительная линия 32"/>
            <p:cNvSpPr/>
            <p:nvPr/>
          </p:nvSpPr>
          <p:spPr>
            <a:xfrm flipV="1">
              <a:off x="3348000" y="1939680"/>
              <a:ext cx="0" cy="3332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Прямая соединительная линия 33"/>
            <p:cNvSpPr/>
            <p:nvPr/>
          </p:nvSpPr>
          <p:spPr>
            <a:xfrm flipV="1">
              <a:off x="4643280" y="2017080"/>
              <a:ext cx="0" cy="2513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Прямая соединительная линия 35"/>
            <p:cNvSpPr/>
            <p:nvPr/>
          </p:nvSpPr>
          <p:spPr>
            <a:xfrm flipV="1">
              <a:off x="5867280" y="1977480"/>
              <a:ext cx="0" cy="1297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Box 38"/>
            <p:cNvSpPr/>
            <p:nvPr/>
          </p:nvSpPr>
          <p:spPr>
            <a:xfrm>
              <a:off x="612720" y="1941120"/>
              <a:ext cx="13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4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Box 39"/>
            <p:cNvSpPr/>
            <p:nvPr/>
          </p:nvSpPr>
          <p:spPr>
            <a:xfrm>
              <a:off x="2197080" y="1977840"/>
              <a:ext cx="12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5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Box 40"/>
            <p:cNvSpPr/>
            <p:nvPr/>
          </p:nvSpPr>
          <p:spPr>
            <a:xfrm>
              <a:off x="3390840" y="1977840"/>
              <a:ext cx="12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5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Box 41"/>
            <p:cNvSpPr/>
            <p:nvPr/>
          </p:nvSpPr>
          <p:spPr>
            <a:xfrm>
              <a:off x="4632480" y="19810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Box 42"/>
            <p:cNvSpPr/>
            <p:nvPr/>
          </p:nvSpPr>
          <p:spPr>
            <a:xfrm>
              <a:off x="5948280" y="1987200"/>
              <a:ext cx="22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7-2020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32"/>
            <p:cNvSpPr/>
            <p:nvPr/>
          </p:nvSpPr>
          <p:spPr>
            <a:xfrm>
              <a:off x="900000" y="6114960"/>
              <a:ext cx="80647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33"/>
            <p:cNvSpPr/>
            <p:nvPr/>
          </p:nvSpPr>
          <p:spPr>
            <a:xfrm>
              <a:off x="5867280" y="3955680"/>
              <a:ext cx="0" cy="2159280"/>
            </a:xfrm>
            <a:prstGeom prst="line">
              <a:avLst/>
            </a:prstGeom>
            <a:ln w="25560">
              <a:solidFill>
                <a:srgbClr val="8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34"/>
            <p:cNvSpPr/>
            <p:nvPr/>
          </p:nvSpPr>
          <p:spPr>
            <a:xfrm>
              <a:off x="2268360" y="5611680"/>
              <a:ext cx="34560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8a0407"/>
                  </a:solidFill>
                  <a:latin typeface="Arial"/>
                </a:rPr>
                <a:t>1 эта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35"/>
            <p:cNvSpPr/>
            <p:nvPr/>
          </p:nvSpPr>
          <p:spPr>
            <a:xfrm>
              <a:off x="5796000" y="5611680"/>
              <a:ext cx="33480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8a0407"/>
                  </a:solidFill>
                  <a:latin typeface="Arial"/>
                </a:rPr>
                <a:t>2 эта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Rectangle 166"/>
          <p:cNvSpPr/>
          <p:nvPr/>
        </p:nvSpPr>
        <p:spPr>
          <a:xfrm>
            <a:off x="5948280" y="3429000"/>
            <a:ext cx="2874960" cy="2149560"/>
          </a:xfrm>
          <a:prstGeom prst="rect">
            <a:avLst/>
          </a:prstGeom>
          <a:solidFill>
            <a:srgbClr val="eff4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Наличие единых под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к стратегии деятельности М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как регион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организации по стандарт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Дата 1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Номер слайда 3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9A06-89F3-41E8-AA85-C9AD937190CB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OST type A"/>
              </a:rPr>
              <a:t>О выполнении решений 2-го ВС МГС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81" name="Text Box 22"/>
          <p:cNvSpPr/>
          <p:nvPr/>
        </p:nvSpPr>
        <p:spPr>
          <a:xfrm>
            <a:off x="324000" y="907920"/>
            <a:ext cx="8496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Обобщенные предложения Республики Беларусь по совершенствованию структуры МГС и методологии межгосударственной стандарт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Скругленный прямоугольник 19"/>
          <p:cNvSpPr/>
          <p:nvPr/>
        </p:nvSpPr>
        <p:spPr>
          <a:xfrm>
            <a:off x="1332000" y="2852640"/>
            <a:ext cx="691200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1. Введение ГОСТ 1.0, ГОСТ 1.2, ГОСТ 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Скругленный прямоугольник 19"/>
          <p:cNvSpPr/>
          <p:nvPr/>
        </p:nvSpPr>
        <p:spPr>
          <a:xfrm>
            <a:off x="611280" y="1916280"/>
            <a:ext cx="6912000" cy="722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Активизация работ по выполнению запланированных мероприятий</a:t>
            </a:r>
            <a:r>
              <a:rPr b="1" lang="en-US" sz="1600" spc="-1" strike="noStrike">
                <a:solidFill>
                  <a:srgbClr val="005a9e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Скругленный прямоугольник 19"/>
          <p:cNvSpPr/>
          <p:nvPr/>
        </p:nvSpPr>
        <p:spPr>
          <a:xfrm>
            <a:off x="1332000" y="3429000"/>
            <a:ext cx="691200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2. Завершение работы по аккредитации Указателя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Скругленный прямоугольник 19"/>
          <p:cNvSpPr/>
          <p:nvPr/>
        </p:nvSpPr>
        <p:spPr>
          <a:xfrm>
            <a:off x="1332000" y="4076640"/>
            <a:ext cx="691200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3. Осуществление планирования и разработки стандартов в рамках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Скругленный прямоугольник 19"/>
          <p:cNvSpPr/>
          <p:nvPr/>
        </p:nvSpPr>
        <p:spPr>
          <a:xfrm>
            <a:off x="1332000" y="4869000"/>
            <a:ext cx="6913440" cy="1368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4. Разработка документов для создания правовой основы распространения межгосударственных стандартов, упорядочения процесса их распространения, обеспечение привлечения дополнительных финансовы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7" name="AutoShape 36"/>
          <p:cNvCxnSpPr>
            <a:endCxn id="982" idx="1"/>
          </p:cNvCxnSpPr>
          <p:nvPr/>
        </p:nvCxnSpPr>
        <p:spPr>
          <a:xfrm flipH="1" flipV="1" rot="10800000">
            <a:off x="610920" y="2277000"/>
            <a:ext cx="721440" cy="827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88" name="AutoShape 37"/>
          <p:cNvCxnSpPr/>
          <p:nvPr/>
        </p:nvCxnSpPr>
        <p:spPr>
          <a:xfrm flipH="1" flipV="1" rot="10800000">
            <a:off x="610920" y="2278080"/>
            <a:ext cx="721440" cy="144036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89" name="AutoShape 38"/>
          <p:cNvCxnSpPr/>
          <p:nvPr/>
        </p:nvCxnSpPr>
        <p:spPr>
          <a:xfrm flipH="1" flipV="1" rot="10800000">
            <a:off x="610920" y="2277000"/>
            <a:ext cx="721440" cy="2159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90" name="AutoShape 39"/>
          <p:cNvCxnSpPr/>
          <p:nvPr/>
        </p:nvCxnSpPr>
        <p:spPr>
          <a:xfrm flipH="1" flipV="1" rot="10800000">
            <a:off x="610920" y="2277000"/>
            <a:ext cx="721440" cy="3275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Дата 1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Номер слайда 3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597A-69CC-478D-893F-25A63DB2E1E3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OST type A"/>
              </a:rPr>
              <a:t>О выполнении решений 2-го ВС МГС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24000" y="907920"/>
            <a:ext cx="8496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Обобщенные предложения Республики Казахстан по совершенствованию структуры МГС и методологии межгосударственной стандарт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Скругленный прямоугольник 19"/>
          <p:cNvSpPr/>
          <p:nvPr/>
        </p:nvSpPr>
        <p:spPr>
          <a:xfrm>
            <a:off x="1332000" y="2852640"/>
            <a:ext cx="691200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1. Провести оптимизацию заседаний РГ или учредить соответствующий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Скругленный прямоугольник 19"/>
          <p:cNvSpPr/>
          <p:nvPr/>
        </p:nvSpPr>
        <p:spPr>
          <a:xfrm>
            <a:off x="611280" y="1916280"/>
            <a:ext cx="6912000" cy="722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Совершенствование работ по направлению стандартизация </a:t>
            </a:r>
            <a:r>
              <a:rPr b="1" lang="en-US" sz="1600" spc="-1" strike="noStrike">
                <a:solidFill>
                  <a:srgbClr val="005a9e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Скругленный прямоугольник 19"/>
          <p:cNvSpPr/>
          <p:nvPr/>
        </p:nvSpPr>
        <p:spPr>
          <a:xfrm>
            <a:off x="1332000" y="3429000"/>
            <a:ext cx="691200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2. Усилить контроль и координацию за деятельностью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Скругленный прямоугольник 19"/>
          <p:cNvSpPr/>
          <p:nvPr/>
        </p:nvSpPr>
        <p:spPr>
          <a:xfrm>
            <a:off x="1332000" y="4076640"/>
            <a:ext cx="691200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3. Проводить мониторинг и своевременно выявлять дублирующие темы в П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Скругленный прямоугольник 19"/>
          <p:cNvSpPr/>
          <p:nvPr/>
        </p:nvSpPr>
        <p:spPr>
          <a:xfrm>
            <a:off x="1332000" y="4869000"/>
            <a:ext cx="6913440" cy="64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4. Закрепить ведение и администрирование АИС МГС за бюро по стандартам МГ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1"/>
          <p:cNvCxnSpPr>
            <a:endCxn id="995" idx="1"/>
          </p:cNvCxnSpPr>
          <p:nvPr/>
        </p:nvCxnSpPr>
        <p:spPr>
          <a:xfrm flipH="1" flipV="1" rot="10800000">
            <a:off x="610920" y="2277000"/>
            <a:ext cx="721440" cy="827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01" name="AutoShape 12"/>
          <p:cNvCxnSpPr/>
          <p:nvPr/>
        </p:nvCxnSpPr>
        <p:spPr>
          <a:xfrm flipH="1" flipV="1" rot="10800000">
            <a:off x="610920" y="2278080"/>
            <a:ext cx="721440" cy="144036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02" name="AutoShape 13"/>
          <p:cNvCxnSpPr/>
          <p:nvPr/>
        </p:nvCxnSpPr>
        <p:spPr>
          <a:xfrm flipH="1" flipV="1" rot="10800000">
            <a:off x="610920" y="2277000"/>
            <a:ext cx="721440" cy="2159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03" name="AutoShape 14"/>
          <p:cNvCxnSpPr/>
          <p:nvPr/>
        </p:nvCxnSpPr>
        <p:spPr>
          <a:xfrm flipH="1" flipV="1" rot="10800000">
            <a:off x="610920" y="2278080"/>
            <a:ext cx="721440" cy="291492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004" name="Скругленный прямоугольник 19"/>
          <p:cNvSpPr/>
          <p:nvPr/>
        </p:nvSpPr>
        <p:spPr>
          <a:xfrm>
            <a:off x="1332000" y="5589720"/>
            <a:ext cx="691344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5. Установить отчисления от продаж станда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5" name="AutoShape 16"/>
          <p:cNvCxnSpPr/>
          <p:nvPr/>
        </p:nvCxnSpPr>
        <p:spPr>
          <a:xfrm flipH="1" flipV="1" rot="10800000">
            <a:off x="610920" y="2277720"/>
            <a:ext cx="721440" cy="367272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Дата 1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Номер слайда 3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78EC-FCC5-4991-8C0D-613C79486958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OST type A"/>
              </a:rPr>
              <a:t>2 этап. Состояние вопроса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09" name="Скругленный прямоугольник 7"/>
          <p:cNvSpPr/>
          <p:nvPr/>
        </p:nvSpPr>
        <p:spPr>
          <a:xfrm>
            <a:off x="4691160" y="784080"/>
            <a:ext cx="4176720" cy="4034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Повышение роли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9e"/>
                </a:solidFill>
                <a:latin typeface="Arial"/>
              </a:rPr>
              <a:t>(ГОСТ 1.2-2015, ГОСТ 1.4-2015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9e"/>
                </a:solidFill>
                <a:latin typeface="Arial"/>
              </a:rPr>
              <a:t>ПМГ 22-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Созд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базы экспе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9e"/>
                </a:solidFill>
                <a:latin typeface="Arial"/>
              </a:rPr>
              <a:t>(связь с промышленность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Синхронизация работ в национальных системах и межгосударственной системе стандарт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Скругленный прямоугольник 9"/>
          <p:cNvSpPr/>
          <p:nvPr/>
        </p:nvSpPr>
        <p:spPr>
          <a:xfrm>
            <a:off x="176040" y="520560"/>
            <a:ext cx="3507120" cy="16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МТК практически не уча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(возросшее количество принимаемых стандарт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Дублирование тем в ПМ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Скругленный прямоугольник 10"/>
          <p:cNvSpPr/>
          <p:nvPr/>
        </p:nvSpPr>
        <p:spPr>
          <a:xfrm>
            <a:off x="123840" y="2224080"/>
            <a:ext cx="3559320" cy="186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Разраб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МТК практически не уча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Отсутствие замечаний и предложений к проектам стандартов  на стад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Первая редакция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Скругленный прямоугольник 11"/>
          <p:cNvSpPr/>
          <p:nvPr/>
        </p:nvSpPr>
        <p:spPr>
          <a:xfrm>
            <a:off x="123840" y="4116240"/>
            <a:ext cx="3559320" cy="24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Голос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МТК практически не уча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Затягивание сроков голосования из-за появления замечаний и предложений к проектам стандартов на стад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Голосование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риски срывов выполнения контра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Стрелка вниз 12"/>
          <p:cNvGrpSpPr/>
          <p:nvPr/>
        </p:nvGrpSpPr>
        <p:grpSpPr>
          <a:xfrm>
            <a:off x="1663560" y="1616040"/>
            <a:ext cx="530280" cy="189000"/>
            <a:chOff x="1663560" y="1616040"/>
            <a:chExt cx="530280" cy="189000"/>
          </a:xfrm>
        </p:grpSpPr>
        <p:pic>
          <p:nvPicPr>
            <p:cNvPr id="1014" name="Стрелка вниз 12" descr=""/>
            <p:cNvPicPr/>
            <p:nvPr/>
          </p:nvPicPr>
          <p:blipFill>
            <a:blip r:embed="rId1"/>
            <a:stretch/>
          </p:blipFill>
          <p:spPr>
            <a:xfrm>
              <a:off x="1663560" y="1616040"/>
              <a:ext cx="5302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1822320" y="1636560"/>
              <a:ext cx="2127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Стрелка вниз 13"/>
          <p:cNvGrpSpPr/>
          <p:nvPr/>
        </p:nvGrpSpPr>
        <p:grpSpPr>
          <a:xfrm>
            <a:off x="1639800" y="2889360"/>
            <a:ext cx="530280" cy="188640"/>
            <a:chOff x="1639800" y="2889360"/>
            <a:chExt cx="530280" cy="188640"/>
          </a:xfrm>
        </p:grpSpPr>
        <p:pic>
          <p:nvPicPr>
            <p:cNvPr id="1017" name="Стрелка вниз 13" descr=""/>
            <p:cNvPicPr/>
            <p:nvPr/>
          </p:nvPicPr>
          <p:blipFill>
            <a:blip r:embed="rId2"/>
            <a:stretch/>
          </p:blipFill>
          <p:spPr>
            <a:xfrm>
              <a:off x="1639800" y="2889360"/>
              <a:ext cx="53028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1797120" y="2909880"/>
              <a:ext cx="21276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Стрелка вниз 14"/>
          <p:cNvGrpSpPr/>
          <p:nvPr/>
        </p:nvGrpSpPr>
        <p:grpSpPr>
          <a:xfrm>
            <a:off x="1639800" y="4761000"/>
            <a:ext cx="530280" cy="189000"/>
            <a:chOff x="1639800" y="4761000"/>
            <a:chExt cx="530280" cy="189000"/>
          </a:xfrm>
        </p:grpSpPr>
        <p:pic>
          <p:nvPicPr>
            <p:cNvPr id="1020" name="Стрелка вниз 14" descr=""/>
            <p:cNvPicPr/>
            <p:nvPr/>
          </p:nvPicPr>
          <p:blipFill>
            <a:blip r:embed="rId3"/>
            <a:stretch/>
          </p:blipFill>
          <p:spPr>
            <a:xfrm>
              <a:off x="1639800" y="4761000"/>
              <a:ext cx="5302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1797120" y="4782960"/>
              <a:ext cx="2127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AutoShape 10"/>
          <p:cNvGrpSpPr/>
          <p:nvPr/>
        </p:nvGrpSpPr>
        <p:grpSpPr>
          <a:xfrm>
            <a:off x="4024440" y="647640"/>
            <a:ext cx="555480" cy="5570280"/>
            <a:chOff x="4024440" y="647640"/>
            <a:chExt cx="555480" cy="5570280"/>
          </a:xfrm>
        </p:grpSpPr>
        <p:pic>
          <p:nvPicPr>
            <p:cNvPr id="1023" name="AutoShape 10" descr=""/>
            <p:cNvPicPr/>
            <p:nvPr/>
          </p:nvPicPr>
          <p:blipFill>
            <a:blip r:embed="rId4"/>
            <a:stretch/>
          </p:blipFill>
          <p:spPr>
            <a:xfrm>
              <a:off x="4024440" y="647640"/>
              <a:ext cx="555480" cy="55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 Box 52"/>
            <p:cNvSpPr/>
            <p:nvPr/>
          </p:nvSpPr>
          <p:spPr>
            <a:xfrm rot="5400000">
              <a:off x="2788560" y="3306600"/>
              <a:ext cx="2771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Скругленный прямоугольник 19"/>
          <p:cNvSpPr/>
          <p:nvPr/>
        </p:nvSpPr>
        <p:spPr>
          <a:xfrm>
            <a:off x="4799160" y="5167440"/>
            <a:ext cx="4106880" cy="125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Развитие МГС как региональной организ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41"/>
          <p:cNvSpPr/>
          <p:nvPr/>
        </p:nvSpPr>
        <p:spPr>
          <a:xfrm>
            <a:off x="123840" y="1916280"/>
            <a:ext cx="424332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Проведение заседаний Совета и образованных Советом рабочи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рганизация выполнения решений и поручений Со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Подготовка отчетов о работе Совета и Бюро по стандар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Регистрация и хранение принятых межгосударственных норматив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Регистрация МТ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рганизация выпуска каталогов  межгосударственных стандартов и других информационны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Выполнения функций депозитария документов М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41"/>
          <p:cNvSpPr/>
          <p:nvPr/>
        </p:nvSpPr>
        <p:spPr>
          <a:xfrm>
            <a:off x="123840" y="836640"/>
            <a:ext cx="4243320" cy="576360"/>
          </a:xfrm>
          <a:prstGeom prst="rect">
            <a:avLst/>
          </a:prstGeom>
          <a:gradFill rotWithShape="0">
            <a:gsLst>
              <a:gs pos="0">
                <a:srgbClr val="6c9ada"/>
              </a:gs>
              <a:gs pos="100000">
                <a:srgbClr val="3d7b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орд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41"/>
          <p:cNvSpPr/>
          <p:nvPr/>
        </p:nvSpPr>
        <p:spPr>
          <a:xfrm>
            <a:off x="4708440" y="1574640"/>
            <a:ext cx="41054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Формирование приоритетных направлений работ по межгосударственной стандар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Формирование ПМС , перспективных целевых программ, мониторинг и координация их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рганизация голосования по проектам  межгосударственных норматив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етодическое руководство, координация и мониторинг  деятельности МТ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Ведение указателя и портала МТ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Формирование и ведение базы данных экспертов по стандар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Информационно-справочное обслуживание участников работ  по межгосударственной стандар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Взаимодействие с международными и региональными организациями по стандартизации в соответствии с  заключенными Советом согла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Подготовка аналитически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рганизация обучения экспер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41"/>
          <p:cNvSpPr/>
          <p:nvPr/>
        </p:nvSpPr>
        <p:spPr>
          <a:xfrm>
            <a:off x="4718160" y="836640"/>
            <a:ext cx="4105080" cy="576360"/>
          </a:xfrm>
          <a:prstGeom prst="rect">
            <a:avLst/>
          </a:prstGeom>
          <a:solidFill>
            <a:srgbClr val="6691c6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Прямоугольник 12" descr=""/>
          <p:cNvPicPr/>
          <p:nvPr/>
        </p:nvPicPr>
        <p:blipFill>
          <a:blip r:embed="rId1"/>
          <a:stretch/>
        </p:blipFill>
        <p:spPr>
          <a:xfrm>
            <a:off x="249120" y="-36360"/>
            <a:ext cx="8712360" cy="645840"/>
          </a:xfrm>
          <a:prstGeom prst="rect">
            <a:avLst/>
          </a:prstGeom>
          <a:ln w="0">
            <a:noFill/>
          </a:ln>
        </p:spPr>
      </p:pic>
      <p:sp>
        <p:nvSpPr>
          <p:cNvPr id="1031" name="Прямая соединительная линия 21"/>
          <p:cNvSpPr/>
          <p:nvPr/>
        </p:nvSpPr>
        <p:spPr>
          <a:xfrm>
            <a:off x="214200" y="692280"/>
            <a:ext cx="8929800" cy="0"/>
          </a:xfrm>
          <a:prstGeom prst="line">
            <a:avLst/>
          </a:prstGeom>
          <a:ln w="1908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омер слайда 1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731E-82FE-46DE-9276-FB26AB0E1373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Номер слайда 1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E8AD-8C7F-4C9C-A338-E31E880CF71E}" type="slidenum">
              <a:rPr b="1" lang="ru-RU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Заголовок 4"/>
          <p:cNvSpPr/>
          <p:nvPr/>
        </p:nvSpPr>
        <p:spPr>
          <a:xfrm>
            <a:off x="0" y="176040"/>
            <a:ext cx="9107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OST type A"/>
              </a:rPr>
              <a:t>Финансовое обеспечение.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Дата 12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Дата 12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Дата 7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Нижний колонтитул 8"/>
          <p:cNvSpPr/>
          <p:nvPr/>
        </p:nvSpPr>
        <p:spPr>
          <a:xfrm>
            <a:off x="1260360" y="6605640"/>
            <a:ext cx="662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206280" y="1044720"/>
          <a:ext cx="8642520" cy="2379600"/>
        </p:xfrm>
        <a:graphic>
          <a:graphicData uri="http://schemas.openxmlformats.org/drawingml/2006/table">
            <a:tbl>
              <a:tblPr/>
              <a:tblGrid>
                <a:gridCol w="8642520"/>
              </a:tblGrid>
              <a:tr h="577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оссийская Федерация выступает 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«ЗА»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7780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	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становление отчислений в пользу региональной организации по стандартизаци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4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	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истематизацию правил распространения межгосударственных стандартов на 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	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ерритории С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577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	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охранение существующего размера членских взносов на уровне14 000 $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  <p:sp>
        <p:nvSpPr>
          <p:cNvPr id="1040" name="Заголовок 1"/>
          <p:cNvSpPr/>
          <p:nvPr/>
        </p:nvSpPr>
        <p:spPr>
          <a:xfrm>
            <a:off x="351000" y="34941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дполагаемый объем дополнительного финансир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1" name=""/>
          <p:cNvGraphicFramePr/>
          <p:nvPr/>
        </p:nvGraphicFramePr>
        <p:xfrm>
          <a:off x="246240" y="4141800"/>
          <a:ext cx="8642160" cy="1609560"/>
        </p:xfrm>
        <a:graphic>
          <a:graphicData uri="http://schemas.openxmlformats.org/drawingml/2006/table">
            <a:tbl>
              <a:tblPr/>
              <a:tblGrid>
                <a:gridCol w="4857480"/>
                <a:gridCol w="3784680"/>
              </a:tblGrid>
              <a:tr h="94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точник дополнительного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озможные отчисления из расчета 10 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8dd4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тчисления в % от продажи стандартов ГОСТ (по аналогии с ИСО и МЭ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~ 100 000 $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Дата 1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80D8-E77F-40F0-989C-26838B6920B4}" type="datetime">
              <a:rPr b="0" lang="ru-RU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Нижний колонтитул 2"/>
          <p:cNvSpPr/>
          <p:nvPr/>
        </p:nvSpPr>
        <p:spPr>
          <a:xfrm>
            <a:off x="1260360" y="6605640"/>
            <a:ext cx="662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Заголовок 1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5" name=""/>
          <p:cNvGraphicFramePr/>
          <p:nvPr/>
        </p:nvGraphicFramePr>
        <p:xfrm>
          <a:off x="287280" y="620640"/>
          <a:ext cx="8532720" cy="454824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1160"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Предложение в протокол 49 МГС, п.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548dd4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Принять к сведению предложения национальных органов по финансированию, совершенствованию структуры и механизмов работы МГС в области стандарт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548dd4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Отметить предложения по поддержке создания новой структуры МГ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548dd4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Национальным органам до 01.1</a:t>
                      </a:r>
                      <a:r>
                        <a:rPr b="1" lang="en-US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.2016 направить предложения в национальный орган Республики Казахстан для обобщения и последующего изменения и дополнения «дорожной карты» перспективного облика МГС как региональной организации на период 2016-2020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6" name="Номер слайда 4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2532-E585-4E74-A3A8-73F060B41A3D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4:17:58Z</dcterms:created>
  <dc:creator>client906_4</dc:creator>
  <dc:description/>
  <dc:language>en-US</dc:language>
  <cp:lastModifiedBy>client801_11</cp:lastModifiedBy>
  <cp:lastPrinted>2016-02-12T09:16:38Z</cp:lastPrinted>
  <dcterms:modified xsi:type="dcterms:W3CDTF">2016-10-28T12:14:36Z</dcterms:modified>
  <cp:revision>105</cp:revision>
  <dc:subject/>
  <dc:title>Презентация PowerPoint</dc:title>
</cp:coreProperties>
</file>